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5BDC-C341-4D3C-816D-7BD168445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2277-3F9B-46BF-90E8-22FF853C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6C58-F0CA-4EF0-AE3A-80840651D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D3D6-853C-4942-9ED6-60AEE36A6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1949-2CA6-45E9-B052-F6DD2595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4296-4C97-4D4F-A5F3-67019CA9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31C3-0B89-4D70-9A3E-14C759F0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CD0F-D88F-4CF5-98F4-BEC5331C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2D11-9B45-4914-B018-270CE3B4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AF3B-2612-412A-A64A-C58C2063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C37F-2AF3-4C7D-9134-43ED9409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DB95-AF3F-46FF-AA1A-3EB9C480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0011-A62F-4A9D-B1ED-F1BDE9EC8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21:  More About T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3818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I:  You are healthy, but a test says you have a disease (false posit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II:  You are not healthy, but the test says you do not have a disease (false negat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I:  Jury convicts a innocent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II:  Jury fails to convict a guilty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 I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often does a Type I Error Occ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ppens when null hypothesis is true, but you have the misfortune to draw the unusual s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ject null hypothesis, P-value must fall bel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null hypothesis is true, but we reject it the P-value is exact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set        , you are setting the probability of a Type I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, you can only have a Type I error if the null hypothesis is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7543800" y="289548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048120" y="373392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819520" y="4191120"/>
                <a:ext cx="6094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 II 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s if Null Hypothesis is not tr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ull hypothesis is false and we reject if, we have done the correct 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null hypothesis is false and we fail to reject it, we have committed a Type II Err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bability that this error occurs is denoted 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523880" y="4419720"/>
                <a:ext cx="4287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ility of Type I Error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ility of Type II Error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5410080" y="2133720"/>
                <a:ext cx="64152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5562720" y="3657600"/>
                <a:ext cx="39528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ucing 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ther Error is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y is reducing one, without increasing the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ine:  To reduce Type I error, I reduce my        ; however, then my       , or Type II error would increa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ly way to reduce both errors is to collect more evidence—mor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times studies fail because sample sizes are too small to detect the change they are looking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designing a survey or experiment it is a good idea to calculate      , for a reasonable      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724280" y="54864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438280" y="5486400"/>
                <a:ext cx="2383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086600" y="251460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429000" y="2819520"/>
                <a:ext cx="380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wer—related to reducing err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natural to think that if we failed to reject the null hypothesis we did not look hard enough and made the wrong dec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null hypothesis really false and our test was too weak to detect the strength of the differe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ant a test that is strong enough to make the right decision when should be rejecting the null hypothesis when it really is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OWER of the test tells us how strong our test is in rejecting a false null hypothe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power is high, we can be confident that we looked hard en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Power tells us that our test is strong and has a very good chance of detecting a false null hypothesis (very good chance of NOT making a Type II Err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is calculat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he complement of making a Type II Err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648320" y="4267080"/>
                <a:ext cx="10666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ever a study fails to reject the Null Hypothesis, the Power of the test comes into pl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e calculate Power, we imagine the null hypothesis is FALS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 of Power depends on how far the truth lies from the null hypothesis—this distance is called the “effect siz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514600" y="5334120"/>
                <a:ext cx="40384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ffect</m:t>
                    </m:r>
                    <m:r>
                      <m:rPr>
                        <m:lit/>
                        <m:nor/>
                      </m:rPr>
                      <m:t xml:space="preserve">size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661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ll 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ng it can sometimes be tr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event is random or result of “Guessing”, then many times your null is unusual, such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ecially when testing to see if “coin is fair” or to see if “someone has ESP and can predict which closed hand contains a prize” or to see if “die is fai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600200" y="2895480"/>
                <a:ext cx="21337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876920" y="2819520"/>
                <a:ext cx="17524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from visu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ing    to lower Type I error will move the critical value,     to the right and have the effect of increasing      the probability of a Type II error and consequentially reducing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that the large the effect size, the smaller the chance of making a Type II Error and the greater that power of the 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971800" y="0"/>
            <a:ext cx="6172200" cy="3646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133720" y="4191120"/>
                <a:ext cx="30456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676520" y="4419720"/>
                <a:ext cx="41724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981080" y="3657600"/>
                <a:ext cx="685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8077320" y="4495680"/>
                <a:ext cx="285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ucing Both Type I and Type II Err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was discussed earlier—increase the sample size.  The effect of a larger sample size can be seen below.  An increased sample size will reduce the standard deviation, thus making the curves narro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23880" y="2313000"/>
            <a:ext cx="601992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91160" y="2732040"/>
            <a:ext cx="4224240" cy="31910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ucing Both Type I and Type II Error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comparison of err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son of errors with a larger sample siz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04920" y="2514600"/>
            <a:ext cx="3962160" cy="23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pha Levels (Significant Level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P-Value is small, it tells us that our data is rare given the null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rare is rare? How low must it be to reject the null hypothe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bitrarily set a threshold for P-value and if it is below that value, we reject the null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threshold is called the ALPHA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pha Levels (Significant Level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enote the Alpha Level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called the significant level because values under the       are considered statistically signific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e reject the null, “the test is significant at the       =.05 level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select      before you look a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report P-value and        level in 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447920" y="3962520"/>
                <a:ext cx="4888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3048120" y="4495680"/>
                <a:ext cx="4888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5334120" y="1676520"/>
                <a:ext cx="6858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362320" y="2666880"/>
                <a:ext cx="68580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5105520" y="5029200"/>
                <a:ext cx="6858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600200" y="2133720"/>
          <a:ext cx="6374880" cy="3463560"/>
        </p:xfrm>
        <a:graphic>
          <a:graphicData uri="http://schemas.openxmlformats.org/drawingml/2006/table">
            <a:tbl>
              <a:tblPr/>
              <a:tblGrid>
                <a:gridCol w="2124720"/>
                <a:gridCol w="2125440"/>
                <a:gridCol w="2124720"/>
              </a:tblGrid>
              <a:tr h="866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66ff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1-sid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2-sid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65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5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Alpha Lev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3801960" cy="1741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800600" y="457200"/>
            <a:ext cx="40705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alternative is two-sided, the critical value split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qually into two tai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952880" y="3048120"/>
            <a:ext cx="3802320" cy="1741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7200" y="457200"/>
            <a:ext cx="40705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alternative is one-sided, the critical value puts all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one si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actical vs Statistical Signific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rger sample sizes, small unimportant deviations from the null can be statistically signific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maller sample sizes, large seemingly important deviations from the null may not be statistically signific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, always do a reality check—what is the big deal about that differ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dent Interv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approximate a hypothesis by examining a confidence 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ask whether the null is consistent with a CI for the parameter at the corresponding confidence inter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95% Confidence interval corresponds to a two-sided hypothesis test at               (sum of the two tai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95% Confidence interval corresponds to a one-sided hypothesis test at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5410080" y="4343400"/>
                <a:ext cx="129564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486400" y="5562720"/>
                <a:ext cx="1708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04600" indent="-804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’s some shocking news for you: nobody’s perfect. Even with lots of evidence we can still make the wrong deci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4600" indent="-804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e perform a hypothesis test, we can make mistakes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-70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ll hypothesis is true, but we mistakenly reject it.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(Type I err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-70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ll hypothesis is false, but we fail to reject it.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(Type II err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08:03:56Z</dcterms:created>
  <dc:creator> </dc:creator>
  <dc:description/>
  <dc:language>en-US</dc:language>
  <cp:lastModifiedBy> </cp:lastModifiedBy>
  <dcterms:modified xsi:type="dcterms:W3CDTF">2009-12-10T09:14:59Z</dcterms:modified>
  <cp:revision>16</cp:revision>
  <dc:subject/>
  <dc:title>Chapter 21:  More About Tests</dc:title>
</cp:coreProperties>
</file>